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7C8-F0DC-473B-9A19-40838D40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173-E56A-494D-B83F-FEE0D0B3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49F-3304-4299-9986-E115A693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02C-9769-4A0D-9FF2-12BF9B44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171-14EC-4263-B467-63330385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37C-11D0-4B2A-B529-FF2585CB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95C-8BE5-4165-9792-068EEC30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0B6-2C12-44DE-A283-2FCB7EA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4F1-35FE-4A5D-935E-FA4A92A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01D-3429-407D-9A7E-48811CB9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CF3-D0A5-40F7-AE9D-9D17FF7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BE5-C0FC-41EE-A241-2D98B02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4C58-821B-4FE2-81A2-87D963502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61722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1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ction 5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he Law of Si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66840"/>
            <a:ext cx="5410080" cy="847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In Lesson 13.1 you learned how to solve right triangle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o solve a triangle with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no right angle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, you need to know the measure of at least 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one side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nd any 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two other parts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of the triang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W OF SINE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380880" y="160020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w of sines can be written in either of the following forms f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C with sides of length a, b, and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"/>
              <p:cNvSpPr txBox="1"/>
              <p:nvPr/>
            </p:nvSpPr>
            <p:spPr>
              <a:xfrm>
                <a:off x="3276720" y="3505320"/>
                <a:ext cx="3319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3352680" y="5486400"/>
                <a:ext cx="3286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Rectangle 8"/>
          <p:cNvSpPr/>
          <p:nvPr/>
        </p:nvSpPr>
        <p:spPr>
          <a:xfrm>
            <a:off x="4420800" y="472428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685800" y="4191120"/>
            <a:ext cx="2742840" cy="1752120"/>
            <a:chOff x="685800" y="4191120"/>
            <a:chExt cx="2742840" cy="1752120"/>
          </a:xfrm>
        </p:grpSpPr>
        <p:sp>
          <p:nvSpPr>
            <p:cNvPr id="51" name="AutoShape 6"/>
            <p:cNvSpPr/>
            <p:nvPr/>
          </p:nvSpPr>
          <p:spPr>
            <a:xfrm>
              <a:off x="1054080" y="4602960"/>
              <a:ext cx="1886040" cy="88308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685800" y="5290920"/>
              <a:ext cx="610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1727280" y="4191120"/>
              <a:ext cx="610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2817360" y="5295960"/>
              <a:ext cx="611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2316960" y="4647240"/>
              <a:ext cx="610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11"/>
            <p:cNvSpPr/>
            <p:nvPr/>
          </p:nvSpPr>
          <p:spPr>
            <a:xfrm>
              <a:off x="1650240" y="5395680"/>
              <a:ext cx="610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1187280" y="4694400"/>
              <a:ext cx="610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66840"/>
            <a:ext cx="52578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: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C = 103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B = 28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b = 26 feet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840" y="4952880"/>
            <a:ext cx="64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third angle, a, and 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"/>
          <p:cNvGrpSpPr/>
          <p:nvPr/>
        </p:nvGrpSpPr>
        <p:grpSpPr>
          <a:xfrm>
            <a:off x="609480" y="2895480"/>
            <a:ext cx="3200040" cy="2057040"/>
            <a:chOff x="609480" y="2895480"/>
            <a:chExt cx="3200040" cy="2057040"/>
          </a:xfrm>
        </p:grpSpPr>
        <p:sp>
          <p:nvSpPr>
            <p:cNvPr id="61" name="AutoShape 2"/>
            <p:cNvSpPr/>
            <p:nvPr/>
          </p:nvSpPr>
          <p:spPr>
            <a:xfrm>
              <a:off x="1039320" y="3378960"/>
              <a:ext cx="2200320" cy="103680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3"/>
            <p:cNvSpPr/>
            <p:nvPr/>
          </p:nvSpPr>
          <p:spPr>
            <a:xfrm>
              <a:off x="609480" y="4186440"/>
              <a:ext cx="712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4"/>
            <p:cNvSpPr/>
            <p:nvPr/>
          </p:nvSpPr>
          <p:spPr>
            <a:xfrm>
              <a:off x="1824480" y="289548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5"/>
            <p:cNvSpPr/>
            <p:nvPr/>
          </p:nvSpPr>
          <p:spPr>
            <a:xfrm>
              <a:off x="3096360" y="4192560"/>
              <a:ext cx="7131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2512440" y="3430800"/>
              <a:ext cx="712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1734840" y="430956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1194480" y="3486240"/>
              <a:ext cx="712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"/>
          <p:cNvGrpSpPr/>
          <p:nvPr/>
        </p:nvGrpSpPr>
        <p:grpSpPr>
          <a:xfrm>
            <a:off x="3657600" y="2895480"/>
            <a:ext cx="3200040" cy="2166840"/>
            <a:chOff x="3657600" y="2895480"/>
            <a:chExt cx="3200040" cy="2166840"/>
          </a:xfrm>
        </p:grpSpPr>
        <p:sp>
          <p:nvSpPr>
            <p:cNvPr id="69" name="AutoShape 2"/>
            <p:cNvSpPr/>
            <p:nvPr/>
          </p:nvSpPr>
          <p:spPr>
            <a:xfrm>
              <a:off x="4087440" y="3378600"/>
              <a:ext cx="2200320" cy="103680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3"/>
            <p:cNvSpPr/>
            <p:nvPr/>
          </p:nvSpPr>
          <p:spPr>
            <a:xfrm>
              <a:off x="3657600" y="418644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4872600" y="2895480"/>
              <a:ext cx="99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8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5"/>
            <p:cNvSpPr/>
            <p:nvPr/>
          </p:nvSpPr>
          <p:spPr>
            <a:xfrm>
              <a:off x="5687280" y="4419360"/>
              <a:ext cx="1170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3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>
              <a:off x="5560560" y="343080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4495320" y="4309560"/>
              <a:ext cx="1142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26 f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4242600" y="348624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66480"/>
            <a:ext cx="6096240" cy="27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try: 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A = 107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B = 2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b = 15 feet.  Find the third angle, a, and 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5152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C = 122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 = 12 cm and c = 18 cm.  Find the two angles and 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80880" y="2895480"/>
            <a:ext cx="571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he last 2 example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 were given 2 angles and a side; this ti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 are given 2 sides and an angle. 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981400" cy="27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try: 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C = 11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 = 20 cm and c = 11 cm.  Find the two angles and 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04920" y="754380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P. 803#24-36, not 29, 30,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ue 03/0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5:04:30Z</dcterms:created>
  <dc:creator>sraja</dc:creator>
  <dc:description/>
  <dc:language>en-US</dc:language>
  <cp:lastModifiedBy>sraja</cp:lastModifiedBy>
  <dcterms:modified xsi:type="dcterms:W3CDTF">2011-02-25T15:30:25Z</dcterms:modified>
  <cp:revision>5</cp:revision>
  <dc:subject/>
  <dc:title>Chapter 13   Section 5: The Law of Sines</dc:title>
</cp:coreProperties>
</file>